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ADB-ED0C-4236-8E56-EEEC01BF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AF4-1081-46E9-9CE1-353C35C0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6C1-88BA-46A6-B091-555706A9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E79-0EE1-4816-9F4D-0D9C3B94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7E9-4BA3-4E6B-867E-F9CF4CF7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4D26-238E-4F5D-ADE1-733739CB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75FF-15AC-4859-B36C-9F0E757C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6E3B-0B04-4DA9-9C76-265352FA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2159-85F8-4ED5-BFEC-15BF7AE7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273-107D-471F-B1B8-AE2D950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7260-C951-491D-8A8B-E8116D6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6A5-48EC-4F25-AFB7-9712246A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3B7-F9D6-4865-9766-D5C38C64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1F82-5EC2-4624-89B8-637B487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7001-1056-43CC-9D30-C0642BB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5B1-61DF-4D8A-8252-8951F1C8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EFC-D668-4168-88EF-7F91165D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64E6-F96C-4ABF-B310-C49FE45E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4B5-D151-482E-9F18-94B80767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35B-E318-43E5-ABD2-7C31DA59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EA1-05B0-4B84-81F1-0785577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5EB-1BA6-4570-B548-5076EBC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604-F44C-452A-A915-0D0E099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5AE-9BCD-4BDA-9965-200D1F09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1C03-511C-4CD6-8DBC-76D0A9782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DD4-3BA2-4424-9A7F-D5AC2885A4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pace Composi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watercol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ptun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62520" y="152280"/>
            <a:ext cx="518148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5600" y="5638680"/>
            <a:ext cx="656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ran wrap could be used to create the clouds of Neptu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4479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luto and Char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240" y="4761000"/>
            <a:ext cx="80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are no longer considered planets, but objects like these could be fou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other Solar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23623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829800" y="5105520"/>
            <a:ext cx="735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s are bright star like objects with long snowy tails that or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sun. Their tails always point away from the su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93960" y="0"/>
            <a:ext cx="6350040" cy="5549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Su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6280" y="5867280"/>
            <a:ext cx="77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echniques could you use to create this most important objec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1337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ilky Wa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1566720"/>
            <a:ext cx="6858000" cy="513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81200" y="914400"/>
            <a:ext cx="63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y blending two dark colours together for the black of sp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star-scape with white paint and tooth pic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518148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rcu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73392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lanet in our solar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lt could create the cratered look. Notice where the shadow is on this world. Shade from the side to create the shadow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e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66880" y="-380880"/>
            <a:ext cx="6477120" cy="6476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080" y="5257800"/>
            <a:ext cx="865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loud effect could be created by using saran wrap over blue water colou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ed from the side or ce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743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ar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5996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1080" y="5791320"/>
            <a:ext cx="83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ran wrap over a blended 2 tone water colour could create a similar look to 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819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9080" y="5257800"/>
            <a:ext cx="460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colours blended, with salt could cre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look of this cratered surfa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25146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8120" y="-2286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14004" t="20004" r="28007" b="24001"/>
          <a:stretch/>
        </p:blipFill>
        <p:spPr>
          <a:xfrm>
            <a:off x="1143000" y="1219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4157640"/>
            <a:ext cx="4114800" cy="2700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4640" y="4495680"/>
            <a:ext cx="75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large Asteroid belt is found orbiting the sun between the orbits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s and Jupi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666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Jupi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1600" y="5334120"/>
            <a:ext cx="776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piter is the largest planet by far in our solar syst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lanet such as this could be painted larger than the other plane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or three colours blended with saran wrap on top could create this loo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25909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atu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 flipH="1" rot="2845200">
            <a:off x="2192400" y="-234360"/>
            <a:ext cx="5813280" cy="5736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7320" y="5486400"/>
            <a:ext cx="825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ke care when drawing the rings around this planet. Notice they appe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cker towards the outer edges than in the middle. Jupiter Also has ring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ough they appear much smaller in compari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81952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ranu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9560" y="5181480"/>
            <a:ext cx="83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ding from the center could achieve this look. A fine grain of salt on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rface may add some tex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6:26:23Z</dcterms:created>
  <dc:creator>nbdoe</dc:creator>
  <dc:description/>
  <dc:language>en-US</dc:language>
  <cp:lastModifiedBy>nbdoe</cp:lastModifiedBy>
  <dcterms:modified xsi:type="dcterms:W3CDTF">2007-12-03T00:56:56Z</dcterms:modified>
  <cp:revision>11</cp:revision>
  <dc:subject/>
  <dc:title>Space Compositions</dc:title>
</cp:coreProperties>
</file>